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wind.wav" ContentType="audio/x-wav"/>
  <Override PartName="/ppt/media/image12.wmf" ContentType="image/x-wmf"/>
  <Override PartName="/ppt/media/image10.gif" ContentType="image/gif"/>
  <Override PartName="/ppt/media/image11.wmf" ContentType="image/x-wmf"/>
  <Override PartName="/ppt/media/image17.jpeg" ContentType="image/jpeg"/>
  <Override PartName="/ppt/media/image6.wmf" ContentType="image/x-wmf"/>
  <Override PartName="/ppt/media/image18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breeze.wav" ContentType="audio/x-wav"/>
  <Override PartName="/ppt/media/image5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DAD3-652A-4693-A817-028D26200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461E-CAEB-42B8-8A49-7424E323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7102-0477-4C0D-BF03-5A980FC0B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5E09-6910-4CEB-BB76-99F95D7FA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18BD-BDCC-4397-800C-9CB74EA5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7D3C-2E27-4D99-8F31-4ABDAA73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8AD7-3620-4F84-BAC2-037B1222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C7A4-C552-4DFA-92E1-7A6226F6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6C2C-906D-499F-AB73-3A9BE986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0D79-0660-48DE-9CE7-F079ADA5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2A0C-40DD-4DC0-B80E-58382ED6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DDFA-5997-4F8C-AE60-755024DD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ED00-8D91-422B-A4E6-55F053BE5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4572000"/>
            <a:ext cx="2049480" cy="2057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962520" y="3886200"/>
            <a:ext cx="1752480" cy="1733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85800" y="2590920"/>
            <a:ext cx="1744560" cy="1836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105520" y="3505320"/>
            <a:ext cx="785520" cy="747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934320" y="4800600"/>
            <a:ext cx="1412640" cy="1811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6629400" y="2971800"/>
            <a:ext cx="1795320" cy="1590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990720" y="304920"/>
            <a:ext cx="7238880" cy="21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7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EL TIEMP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04920" y="1676520"/>
            <a:ext cx="83818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6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Impact"/>
              </a:rPr>
              <a:t>El tiempo de Sudaméric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9780" t="0" r="0" b="0"/>
          <a:stretch/>
        </p:blipFill>
        <p:spPr>
          <a:xfrm>
            <a:off x="0" y="12600"/>
            <a:ext cx="9144000" cy="684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80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¿Qué tiempo hac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4864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ace </a:t>
            </a: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bue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tiempo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80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¿Qué tiempo hac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4864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ace </a:t>
            </a: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mal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tiempo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5181840" cy="3541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380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¿Qué tiempo hac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4864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ace </a:t>
            </a: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sol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848720" y="5638680"/>
            <a:ext cx="904680" cy="447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04920" y="5029200"/>
            <a:ext cx="115704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486400" y="2057400"/>
            <a:ext cx="3029040" cy="2470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533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¿Qué tiempo hac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800600"/>
            <a:ext cx="9144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uev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á lloviend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38080" y="2286000"/>
            <a:ext cx="34290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011400" cy="3073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01000" y="5486400"/>
            <a:ext cx="925560" cy="1190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28600" y="5486400"/>
            <a:ext cx="925560" cy="1190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71600" y="3049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¿Qué tiempo hac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213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ev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á nevand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  <p:sndAc>
      <p:stSnd>
        <p:snd r:embed="rId4" name="breeze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2973240" cy="2255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380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¿Qué tiempo hac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800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ace </a:t>
            </a: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vient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562360" cy="3708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71600" y="3049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¿Qué tiempo hac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562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stá nublado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04920" y="1981080"/>
            <a:ext cx="8534160" cy="17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6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¿Qué tiempo hace hoy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3:02:03Z</dcterms:created>
  <dc:creator>sip lab</dc:creator>
  <dc:description/>
  <dc:language>en-US</dc:language>
  <cp:lastModifiedBy>ghrabovecky</cp:lastModifiedBy>
  <dcterms:modified xsi:type="dcterms:W3CDTF">2008-04-16T16:42:11Z</dcterms:modified>
  <cp:revision>7</cp:revision>
  <dc:subject/>
  <dc:title>Slide 1</dc:title>
</cp:coreProperties>
</file>